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21C5-08A6-49D1-9F1C-A731F971B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1AEB-10EF-4EED-923C-79ADFF8CD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853A-B9B0-4723-B90A-6E4E33C74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66BF-2331-4A0F-A6EC-5C9A72112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B88D9E-BB08-46D7-BD19-D4F118F1E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31ED25-91F7-46CD-9732-7157E37FE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FEC595-6626-400F-BE95-D73D6FE53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581B5E-6967-487B-827C-B2A463591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3BF767-93F5-4FF1-968E-4E782B18E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93A89E-3A66-48A3-ADC7-6BA448C15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A322DA-F18E-4AA7-A409-1ED4F814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AD3C-1ADB-4784-B7ED-41F2B71D1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1CF803-96E4-4BD0-A8A4-8AD23B83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03626D-77A3-4650-B1BC-1B21FB7A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A97665-2797-4E5B-8864-CBD9B3D94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F8AD4A-7806-46D2-B6B2-C0C390AE5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0A1987-5A50-493C-A596-EA3E2E91B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2C05-9C8E-410C-A450-3F947C3A1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E698-CF92-418D-AF2F-2F444B70F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39E2-E269-416B-BA6C-76CAA2F58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FA17-086E-4108-BEE9-ACAC3478F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A49F-59C5-4929-B26E-AD047F9C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A4F9-FC7F-43E1-8ED3-944093B9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B44D-919B-428C-AF75-9E9C6867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7413E-6771-4890-9BDB-9B5143122EB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1253F-E50C-421D-9C14-0188868DDBE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9360">
            <a:solidFill>
              <a:srgbClr val="6699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ff33"/>
                </a:solidFill>
                <a:uFillTx/>
                <a:latin typeface="Monotype Corsiva"/>
              </a:rPr>
              <a:t>                 </a:t>
            </a:r>
            <a:r>
              <a:rPr b="0" lang="en-US" sz="4400" spc="-1" strike="noStrike" u="sng">
                <a:solidFill>
                  <a:srgbClr val="66ff33"/>
                </a:solidFill>
                <a:uFillTx/>
                <a:latin typeface="Monotype Corsiva"/>
              </a:rPr>
              <a:t>La globalizzazione</a:t>
            </a:r>
            <a:r>
              <a:rPr b="0" lang="en-US" sz="4400" spc="-1" strike="noStrike" u="sng">
                <a:solidFill>
                  <a:srgbClr val="00c600"/>
                </a:solidFill>
                <a:uFillTx/>
                <a:latin typeface="Monotype Corsiva"/>
              </a:rPr>
              <a:t>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484360" y="1773360"/>
            <a:ext cx="41036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50000">
              <a:srgbClr val="4d0808"/>
            </a:gs>
            <a:gs pos="100000">
              <a:srgbClr val="fff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 rot="1162200">
            <a:off x="179280" y="1557360"/>
            <a:ext cx="2592360" cy="1871640"/>
          </a:xfrm>
          <a:prstGeom prst="rightArrow">
            <a:avLst>
              <a:gd name="adj1" fmla="val 50000"/>
              <a:gd name="adj2" fmla="val 3462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Miglioramento mezzi d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comunicazi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20569200">
            <a:off x="178920" y="3716280"/>
            <a:ext cx="2737080" cy="1728720"/>
          </a:xfrm>
          <a:prstGeom prst="rightArrow">
            <a:avLst>
              <a:gd name="adj1" fmla="val 50000"/>
              <a:gd name="adj2" fmla="val 39582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Miglioramento mezzi d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traspor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340000" y="3141720"/>
            <a:ext cx="3311640" cy="79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Monotype Corsiva"/>
              </a:rPr>
              <a:t>La globalizzazi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435640" y="3789360"/>
            <a:ext cx="936720" cy="86364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211640" y="3933720"/>
            <a:ext cx="73080" cy="71928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211640" y="2204640"/>
            <a:ext cx="73080" cy="79236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5292720" y="2997000"/>
            <a:ext cx="936720" cy="21564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372360" y="2133720"/>
            <a:ext cx="2447640" cy="86364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Libera circolazione di mer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6720" y="4149720"/>
            <a:ext cx="2303280" cy="108108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Stili di vita simil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348000" y="4724280"/>
            <a:ext cx="2160720" cy="105264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Riduzione distan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32000" y="1125360"/>
            <a:ext cx="2303640" cy="108144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Libera circolazione d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pers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356000" y="475920"/>
            <a:ext cx="1513080" cy="64908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40360" y="189000"/>
            <a:ext cx="1944720" cy="1008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Monotype Corsiva"/>
              </a:rPr>
              <a:t>Immigrazione e citt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Monotype Corsiva"/>
              </a:rPr>
              <a:t>multietni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7T09:38:42Z</dcterms:created>
  <dc:creator>studente</dc:creator>
  <dc:description/>
  <dc:language>en-US</dc:language>
  <cp:lastModifiedBy>studente</cp:lastModifiedBy>
  <dcterms:modified xsi:type="dcterms:W3CDTF">2017-01-09T10:35:07Z</dcterms:modified>
  <cp:revision>12</cp:revision>
  <dc:subject/>
  <dc:title>Diapositiva 1</dc:title>
</cp:coreProperties>
</file>